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8BB-3F9B-40F2-8D03-98CD365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853-306D-411E-BA65-AFD75780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E11-F983-4253-BD91-6846E2DB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E04-8AD8-4B1F-9BB2-CE6AB0B5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966-99C5-4A5A-859C-CB495BD5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BC6-6C09-488E-9981-EA5891FD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E89-F269-474B-BA90-5F04DE54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0D2-E65D-4962-BF64-126C4CF4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3E8-9458-4632-91CE-E61AC6E3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A27-F47A-4C2C-8A6B-C749F49C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FE9-3F08-4CD7-B50B-3F1C017D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A8D-4FBC-4F7C-BC10-E1804A6F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D15E-B522-495B-904E-434D7CA7A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http://www.cip-medien.com/" TargetMode="External"/><Relationship Id="rId4" Type="http://schemas.openxmlformats.org/officeDocument/2006/relationships/hyperlink" Target="mailto:cipmedien@aol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858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tscheidungsbaum zur Stellung einer ICD-10-Diagnose bei Alkoholabhängigkeits- oder-mißbrauchssyndrom laut VDS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0440" y="172080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23960" y="1943280"/>
          <a:ext cx="2485800" cy="412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43280"/>
                    <a:ext cx="248580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01560" y="1163520"/>
            <a:ext cx="592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: Liegt ein alkoholbedingtes Abhängigkeitssyndrom vor (F10.2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315040"/>
            <a:ext cx="20955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das Vorliegen eines schädlichen Alkoholgebrauchs anhand von Seite 38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9280" y="6566040"/>
            <a:ext cx="24858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gen diese Symptome durchgehend seit mindestens einem Monat oder wiederholt in einer Periode von mindestens einem Jahr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400" y="7658280"/>
            <a:ext cx="247968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t ein aktueller Konsum oder ein starker Wunsch nach Alkohol vor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in eigenes Verlangen des Patienten ist zur Diagnose notwendig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8360" y="7723080"/>
            <a:ext cx="243684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elt es sich bei Alkohol um die einzige  psychotrope Substanz von der Abhängigkeit besteh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22400" y="8456760"/>
            <a:ext cx="148752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9.2°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hängigkeitssyndrom durch multiplen Substanzgebra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0760" y="6626160"/>
            <a:ext cx="14875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0.2°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Abhängigkeitssyndrom durch Alkoh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5080" y="55530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2000" y="58561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8" idx="2"/>
            <a:endCxn id="49" idx="0"/>
          </p:cNvCxnSpPr>
          <p:nvPr/>
        </p:nvCxnSpPr>
        <p:spPr>
          <a:xfrm>
            <a:off x="1962000" y="7025040"/>
            <a:ext cx="3600" cy="63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3"/>
            <a:endCxn id="50" idx="1"/>
          </p:cNvCxnSpPr>
          <p:nvPr/>
        </p:nvCxnSpPr>
        <p:spPr>
          <a:xfrm>
            <a:off x="3205080" y="7948440"/>
            <a:ext cx="77364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0"/>
            <a:endCxn id="52" idx="2"/>
          </p:cNvCxnSpPr>
          <p:nvPr/>
        </p:nvCxnSpPr>
        <p:spPr>
          <a:xfrm flipV="1">
            <a:off x="5196600" y="7085160"/>
            <a:ext cx="8280" cy="63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1" idx="3"/>
          </p:cNvCxnSpPr>
          <p:nvPr/>
        </p:nvCxnSpPr>
        <p:spPr>
          <a:xfrm rot="5400000">
            <a:off x="4470480" y="8021160"/>
            <a:ext cx="565200" cy="88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205240" y="81882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97320" y="75088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5080" y="7737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65240" y="7031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62000" y="5856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5080" y="5348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62280" y="3457440"/>
            <a:ext cx="2860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° Verschlüsseln Sie mit der fünften Stelle die gegenwärtige Abstinenz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0 gegenwärtig abstinent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1 gegenwärtig abstinent, aber in beschützter Umgebung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2 gegenwärtig Teilnahme an ärztlich überwachtem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Ersatzdrogenprogramm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3 gegenwärtig abstinent, aber in Behandlung mit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aversiven oder hemmenden Medikamente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4 gegenwärtiger Substanzgebrauch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5 ständiger Substanzgebrauch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6 episodischer Substanzgebra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9760" y="680076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662280" y="5553000"/>
            <a:ext cx="0" cy="12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5080" y="6586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62280" y="680076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29080" y="7372440"/>
            <a:ext cx="10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9080" y="73724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9080" y="7443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78360" y="1720800"/>
            <a:ext cx="2346120" cy="855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pyright: CIP-Medien Verlag Mün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cip-medien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ipmedien@ao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toren: S. Holzer und S. Su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17400" y="2253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3440" y="142704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69840" y="1647720"/>
            <a:ext cx="21337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-Befund Alkoholmißbrauch  nachweis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DS14/1, sowie 2 -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6880" y="2122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960" y="2629080"/>
            <a:ext cx="251784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folgt Alkoholkonsum gegenüber der jeweiligen soziokulturellen Norm in überhöhtem Maß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DS14/2) oder zu unpassenden Gelegenheite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VDS14/3 und 4)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2800" y="3809880"/>
            <a:ext cx="26478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klare Hinweise auf eine eindeutig alkoholbedingte körperliche oder psychische Schädigung vor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gative soziale Folgen, eine akute Intoxikation oder ein „Kater“ reichen nicht aus, um diesen Punkt anzunehme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2"/>
            <a:endCxn id="79" idx="0"/>
          </p:cNvCxnSpPr>
          <p:nvPr/>
        </p:nvCxnSpPr>
        <p:spPr>
          <a:xfrm>
            <a:off x="2036520" y="2112840"/>
            <a:ext cx="1080" cy="5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9" idx="2"/>
            <a:endCxn id="80" idx="0"/>
          </p:cNvCxnSpPr>
          <p:nvPr/>
        </p:nvCxnSpPr>
        <p:spPr>
          <a:xfrm>
            <a:off x="2036520" y="3215880"/>
            <a:ext cx="108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2036880" y="32162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2"/>
          </p:cNvCxnSpPr>
          <p:nvPr/>
        </p:nvCxnSpPr>
        <p:spPr>
          <a:xfrm>
            <a:off x="2036520" y="4641840"/>
            <a:ext cx="10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36880" y="4641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05240" y="7732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2800" y="5286240"/>
            <a:ext cx="26478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d das schädigende Konsumverhalten von anderen kritisiert und hat auch häufig unterschiedliche negative soziale Folg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38560" y="5286240"/>
            <a:ext cx="21337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 Abhängigkeitssyndrom ausgeschlossen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 3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78360" y="7267680"/>
            <a:ext cx="243684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elt es sich bei Alkohol um die einzige in dieser Weise konsumierte psychotrope Substanz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6276960"/>
            <a:ext cx="309564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t dieses Konsummuster durchgehend seit mindestens einem Monat oder wiederholt in einer Periode von mindestens einem Jahr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65200" y="7259760"/>
            <a:ext cx="14875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0.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schädlicher Gebrauch von Alkoh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0760" y="8221680"/>
            <a:ext cx="14875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9.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pler schädlicher Substanzgebra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360240" y="5519520"/>
            <a:ext cx="778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3360600" y="5305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2"/>
            <a:endCxn id="90" idx="0"/>
          </p:cNvCxnSpPr>
          <p:nvPr/>
        </p:nvCxnSpPr>
        <p:spPr>
          <a:xfrm>
            <a:off x="5204880" y="5751360"/>
            <a:ext cx="1080" cy="5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205240" y="5751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0" idx="2"/>
            <a:endCxn id="89" idx="0"/>
          </p:cNvCxnSpPr>
          <p:nvPr/>
        </p:nvCxnSpPr>
        <p:spPr>
          <a:xfrm flipH="1">
            <a:off x="5196960" y="6742080"/>
            <a:ext cx="8640" cy="5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97320" y="67420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9" idx="1"/>
            <a:endCxn id="91" idx="3"/>
          </p:cNvCxnSpPr>
          <p:nvPr/>
        </p:nvCxnSpPr>
        <p:spPr>
          <a:xfrm flipH="1" flipV="1">
            <a:off x="2952000" y="7495560"/>
            <a:ext cx="10263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705120" y="7286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9" idx="2"/>
            <a:endCxn id="92" idx="0"/>
          </p:cNvCxnSpPr>
          <p:nvPr/>
        </p:nvCxnSpPr>
        <p:spPr>
          <a:xfrm>
            <a:off x="5197320" y="7732800"/>
            <a:ext cx="8640" cy="48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185120" y="687240"/>
            <a:ext cx="448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: Liegt ein schädlicher Gebrauch von Alkohol (Mißbrauch) vor (F10.1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5:07:49Z</dcterms:created>
  <dc:creator>stefan holzer</dc:creator>
  <dc:description/>
  <dc:language>en-US</dc:language>
  <cp:lastModifiedBy>Dr. Sulz</cp:lastModifiedBy>
  <dcterms:modified xsi:type="dcterms:W3CDTF">2006-02-12T06:37:25Z</dcterms:modified>
  <cp:revision>17</cp:revision>
  <dc:subject/>
  <dc:title>PowerPoint-Präsentation</dc:title>
</cp:coreProperties>
</file>